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6362-BFCF-473D-BC67-8A9ADB351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7C1C-2600-4536-8F53-6D108E57C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DB04-9B06-4674-B34E-43C162BF3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BD15-E902-4473-9B0F-147C71EDF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86C5-BAD8-4656-9D5D-882404190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2FC4-F371-42B7-93E4-6804839C41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BFA2-F610-4F92-B6A1-CC366423FD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079C-762B-41D4-9510-188CF52940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3F15-C9EC-41B1-8E10-C85C5D99F8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8A22-BAA1-40E0-96D2-BB0FA5A6E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B29E-86AF-4F61-851C-B4BAC716F5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6364-ABEE-487B-B625-8C3BE1DFCB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B5A2-7AF9-4646-8912-2DDEDB3C67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7715-6E0B-4B44-AB5B-D5CDE92842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6BF3-6386-4679-8E44-812BE88D5C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BC66-B48B-4D20-9800-07181596A0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9C02-947A-4501-AE21-B1D4954151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13A9-C2E3-4C3F-B27E-5B5ADC1026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8B6-E171-4A9A-A5A8-5D4FC34B60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33C-5CA8-4D8D-961B-02154BBDA9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880-CF42-43AF-B7E0-131B7016F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E50B-B24B-4125-AC74-A6B8ADD17C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CE7-79B8-4C64-B76E-434EE258A2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343-0459-40FE-8420-E3C8892DC1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3E3-0372-4F30-BD01-3CE372DAE6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8D9-F74F-4FFE-9650-5A54A10FFD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B84-E151-45AC-AFC6-0C9E661F0E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065-4832-48CF-8BFA-5DF29A66B4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3F8-B173-4472-AFAD-8FC44E6368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3C0-3C17-4366-8C97-7E8DBEAA31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E34-91E6-47E6-98EA-E5841ABDD4D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8BB56-CA7B-4C39-9033-D9383FB63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4B12-FEEE-4405-9347-55552C9C14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AC622-C8DB-4BDD-8924-558B287647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37CF0-C300-4190-90ED-B2944BA31E4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AC001-0FA2-4236-98D0-E63E85D842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102DC-5617-4C40-8415-B86968DDB42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268EC-9BF1-4884-8B36-6E8CE64563B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168FA-9242-46CC-BADC-45FB842DF30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0417D-36DA-4EAE-9408-01115ACC03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B7E42-6240-4301-95ED-047B8E29F3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3625B-7AD8-44FF-B4C4-82A4D16CEF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60B04-7C64-41DD-ACE5-934B55B81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CCA3-C23F-425B-84EE-69D505AA9DA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7888F-83DA-44D4-B44E-00D5194BD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8A95-C8F6-4088-990A-9EEDA0398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ECE3-724B-4E3E-ACF5-656AD44DA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E4B7-A2FB-468D-811F-6F671D398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5366-03F2-40EF-8F6A-34FAC8261B1A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2A8A-89D0-4831-86BB-6F2A4D64BB6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9A20-2AD6-489B-AB98-496422E66CF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6E60-A655-4EAD-9BBE-11E6C55CFA3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50" name="Title 1" descr=""/>
          <p:cNvPicPr/>
          <p:nvPr/>
        </p:nvPicPr>
        <p:blipFill>
          <a:blip r:embed="rId2"/>
          <a:stretch/>
        </p:blipFill>
        <p:spPr>
          <a:xfrm>
            <a:off x="3943440" y="2212920"/>
            <a:ext cx="506088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2"/>
          <p:cNvSpPr/>
          <p:nvPr/>
        </p:nvSpPr>
        <p:spPr>
          <a:xfrm>
            <a:off x="1806480" y="5791320"/>
            <a:ext cx="61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ach shape has a default style. Most shapes can hold text,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1219320" y="1647720"/>
            <a:ext cx="7162560" cy="39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633240" y="1676520"/>
            <a:ext cx="2567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hapes can be moved and sized. They are formatted from the Drawing Tools Format tab or the Format Shape dialog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2"/>
          <a:srcRect l="-2189" t="35839" r="21144" b="-2409"/>
          <a:stretch/>
        </p:blipFill>
        <p:spPr>
          <a:xfrm>
            <a:off x="3500280" y="1676520"/>
            <a:ext cx="534672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4733640" cy="458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9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027480" cy="151128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4BDF-CBE9-4097-AF41-A8FDFF59201B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1231920" y="171360"/>
            <a:ext cx="7692840" cy="846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18840" y="2982960"/>
            <a:ext cx="6661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mmon data are in the same position on each worksheet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l worksheets have the same row and column labels; data need not be in the same position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762120" y="1523880"/>
            <a:ext cx="817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orksheet and workbook data can be consolidated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7772400" y="1584360"/>
            <a:ext cx="490680" cy="49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6"/>
          <p:cNvSpPr/>
          <p:nvPr/>
        </p:nvSpPr>
        <p:spPr>
          <a:xfrm>
            <a:off x="714240" y="1371600"/>
            <a:ext cx="2714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static consolidation enters a result. This data is being consolidated by position; all the sheets have the data in cells B6:E9. The data from the three monthly sheets will be summed on the 1stQtr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3610080" y="1447920"/>
            <a:ext cx="5229000" cy="48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3363840" y="1736640"/>
            <a:ext cx="5454720" cy="41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3" name="Text Box 6"/>
          <p:cNvSpPr/>
          <p:nvPr/>
        </p:nvSpPr>
        <p:spPr>
          <a:xfrm>
            <a:off x="511200" y="1600200"/>
            <a:ext cx="2852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dynamic consolidation results in 3-D formulas and outline format. Edits made on a source worksheet are automatically calculated on the consolidated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809720" y="1492200"/>
            <a:ext cx="5734080" cy="42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6" name="Text Box 6"/>
          <p:cNvSpPr/>
          <p:nvPr/>
        </p:nvSpPr>
        <p:spPr>
          <a:xfrm>
            <a:off x="2438280" y="5875200"/>
            <a:ext cx="49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Outline levels can be expanded or collap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5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981080" y="602136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ormula displays shows the links to the source workshe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1382760" y="1447920"/>
            <a:ext cx="672444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685800" y="1600200"/>
            <a:ext cx="2666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f the worksheets do not have the labels in the same order, you can consolidate by category. No labels are included in the range on the consolidation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3809880" y="1488960"/>
            <a:ext cx="4759560" cy="48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A53F-3564-458A-A34A-F618AF59298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Content Placeholder 3" descr=""/>
          <p:cNvPicPr/>
          <p:nvPr/>
        </p:nvPicPr>
        <p:blipFill>
          <a:blip r:embed="rId2"/>
          <a:stretch/>
        </p:blipFill>
        <p:spPr>
          <a:xfrm>
            <a:off x="378000" y="1414440"/>
            <a:ext cx="844200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14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15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EC76-94F7-42E4-8C81-540DE44C661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219320" y="14479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ombines data from more than on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dependent workbook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ts data from other workbook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external reference formula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the formula in the dependent workbook that refers to another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ource workbook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vides data to the external reference formul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294920" y="20570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ointing to the cell(s) when both workbooks are open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ing the Consolidate command and creating links. Both workbooks must be open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eying the formula with workbook, sheet, and cell references. The source workbook need not be open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533520" y="13636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You can create an external reference formula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5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619776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3" name="Text Box 7"/>
          <p:cNvSpPr/>
          <p:nvPr/>
        </p:nvSpPr>
        <p:spPr>
          <a:xfrm>
            <a:off x="534960" y="1523880"/>
            <a:ext cx="209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formula in the dependent workbook refers to the source work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"/>
          <p:cNvSpPr/>
          <p:nvPr/>
        </p:nvSpPr>
        <p:spPr>
          <a:xfrm>
            <a:off x="738360" y="3429000"/>
            <a:ext cx="825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Arial"/>
              </a:rPr>
              <a:t>'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[WorkbookName]WorksheetName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Arial"/>
              </a:rPr>
              <a:t>'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!CellAdd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950760" y="1371600"/>
            <a:ext cx="758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both the dependent and the source workbooks are open, an external reference formula follows this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1676520" y="1630440"/>
            <a:ext cx="61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the source workbook is not open, an external reference formula includes the complete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609480" y="3746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'C:\FolderName\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[WorkbookName]WorksheetNam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!Cell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778B-819B-48BE-A722-874AEEE5DE7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8528040" cy="11588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6"/>
          <p:cNvSpPr/>
          <p:nvPr/>
        </p:nvSpPr>
        <p:spPr>
          <a:xfrm>
            <a:off x="685800" y="190512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n external reference formula creates a connection, a live link to another document. You can view and change the links for a work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4448160" cy="499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8601120" cy="11588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6"/>
          <p:cNvSpPr/>
          <p:nvPr/>
        </p:nvSpPr>
        <p:spPr>
          <a:xfrm>
            <a:off x="533520" y="20574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hen you open a workbook with an external reference formula, the links are disabled as a security meas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581976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927000" y="-6480"/>
            <a:ext cx="8375760" cy="11588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914400" y="1600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the source workbook has been moved or renamed, you will see a message box when opening the dependent work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87240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5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864040" cy="1511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3760-9582-4C37-8A84-AB16DDD6B40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8448480" cy="11588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6"/>
          <p:cNvSpPr/>
          <p:nvPr/>
        </p:nvSpPr>
        <p:spPr>
          <a:xfrm>
            <a:off x="609480" y="1676520"/>
            <a:ext cx="243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hen a source workbook should not be altered, you can add worksheet protection to prohibit ed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3352680" y="1752480"/>
            <a:ext cx="5372280" cy="413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46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875200" cy="151128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BD33-F723-40E5-97F7-507D4DDBB1D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944640" y="-6480"/>
            <a:ext cx="8400960" cy="11588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2558880" y="2743200"/>
            <a:ext cx="553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p Art is a category of images that is provided with Excel. A piece of clip art is a single, ready-made pic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1447920" y="2090880"/>
            <a:ext cx="609480" cy="57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1461960" y="1371600"/>
            <a:ext cx="67057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990720" y="1941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ropping an image is a way to hide part of the image. You can crop clip art or a picture from file. It takes practice to learn how to crop quick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4648320" y="1631880"/>
            <a:ext cx="3998880" cy="438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838080" y="133524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screenshot is a picture of something on the computer screen. This command “captures” the screen and inserts an image in the active worksh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" descr=""/>
          <p:cNvPicPr/>
          <p:nvPr/>
        </p:nvPicPr>
        <p:blipFill>
          <a:blip r:embed="rId2"/>
          <a:stretch/>
        </p:blipFill>
        <p:spPr>
          <a:xfrm>
            <a:off x="1625760" y="2247840"/>
            <a:ext cx="622296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599840" y="1752120"/>
            <a:ext cx="6248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data consolidation, information from several worksheets or workbooks is assembled and summariz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asic consolidation of data in a single workbook can be accomplished using 3-D references to the supporting worksheets on a summary 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1218960" y="15238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Consolidate command on the Data command tab provides static and dynamic consolidations, by position or by catego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onsolidate by position when labels and values are in the same location on each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 consolidation by category, the supporting worksheets have the same row and column labels, but the data are organized differentl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9528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results of a static consolidation are not updated if the supporting data cha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ynamic consolidations create links using 3-D cell references to the supporting worksheets. The results appear in an out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 dynamic consolidation, changes made in the supporting worksheets are reflected in the consolidated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447920" y="182844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nking occurs when formulas in a worksheet refer to cells in another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that refer to cells in another workbook are called external reference formula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nked workbooks are either dependent or source workbook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onsolidatio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ombines and summarizes data from multiple workshee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enables you to create a single report from multiple sources without having to rekey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523520" y="175212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create an external reference by pointing, Excel uses proper formula syntax for the reference to the sourc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fter workbooks have been linked, you can review and update the link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alerts you to the existence of links when you open a dependent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752120" y="1599840"/>
            <a:ext cx="6172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you rename or move a source workbook, you need to edit the link in the dependent workbook to maintain the connec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ternal references can be deleted from the dependent workbook. You can also break links but keep resul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sheet protection is a method of prohibiting changes to a workbook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676160" y="1523520"/>
            <a:ext cx="6172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apes are common figures or outlines. They are objects and can be moved, sized, and styl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includes a large selection of clip art, with more available on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creenshot is a capture of a screen area from another program or Web site. It can be inserted as a picture in the current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774720" y="171360"/>
            <a:ext cx="8588520" cy="846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3048120" y="1447920"/>
            <a:ext cx="5800680" cy="49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1" name="TextBox 3"/>
          <p:cNvSpPr/>
          <p:nvPr/>
        </p:nvSpPr>
        <p:spPr>
          <a:xfrm>
            <a:off x="685800" y="1468440"/>
            <a:ext cx="2133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3-D reference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s a formula that refers to a cell or cells on another worksheet. It includes the sheet name followed by an exclamation point (!) and the cell reference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63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1235-9B57-40DE-A42C-FDA92A8F309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09680" y="2361960"/>
            <a:ext cx="5718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a common figure, form, or out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hape is a line illustra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hape is placed as an object on the draw lay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Picture 1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44756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hape has a bounding box, a rectangular out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hape has selection hand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shapes have an adjustment handle, a yellow diamond used to adjust the appearance and design of the shap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st shapes have a rotation handle, a small green circle used to reset the angle of the shap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16"/>
          <p:cNvGrpSpPr/>
          <p:nvPr/>
        </p:nvGrpSpPr>
        <p:grpSpPr>
          <a:xfrm>
            <a:off x="623880" y="1400040"/>
            <a:ext cx="8247960" cy="4773600"/>
            <a:chOff x="623880" y="1400040"/>
            <a:chExt cx="8247960" cy="4773600"/>
          </a:xfrm>
        </p:grpSpPr>
        <p:pic>
          <p:nvPicPr>
            <p:cNvPr id="272" name="Picture 4" descr="ShapeExamples"/>
            <p:cNvPicPr/>
            <p:nvPr/>
          </p:nvPicPr>
          <p:blipFill>
            <a:blip r:embed="rId2"/>
            <a:stretch/>
          </p:blipFill>
          <p:spPr>
            <a:xfrm>
              <a:off x="2673360" y="1842840"/>
              <a:ext cx="4048200" cy="37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6"/>
            <p:cNvSpPr/>
            <p:nvPr/>
          </p:nvSpPr>
          <p:spPr>
            <a:xfrm>
              <a:off x="3760560" y="1400040"/>
              <a:ext cx="20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Rotation han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6679440" y="3443040"/>
              <a:ext cx="21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Selection hand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4098240" y="5805360"/>
              <a:ext cx="17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Bounding 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623880" y="2995200"/>
              <a:ext cx="23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Adjustment han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 flipV="1">
              <a:off x="5035680" y="5119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1"/>
            <p:cNvSpPr/>
            <p:nvPr/>
          </p:nvSpPr>
          <p:spPr>
            <a:xfrm>
              <a:off x="2901960" y="3214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4730760" y="1766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 flipH="1">
              <a:off x="6102000" y="390024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 flipH="1">
              <a:off x="6102000" y="3639960"/>
              <a:ext cx="6858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5"/>
            <p:cNvSpPr/>
            <p:nvPr/>
          </p:nvSpPr>
          <p:spPr>
            <a:xfrm flipH="1" flipV="1">
              <a:off x="6102000" y="263304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10:56Z</dcterms:modified>
  <cp:revision>78</cp:revision>
  <dc:subject/>
  <dc:title>Microsoft office</dc:title>
</cp:coreProperties>
</file>